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ng" ContentType="image/png"/>
  <Override PartName="/ppt/media/image10.png" ContentType="image/png"/>
  <Override PartName="/ppt/media/image6.png" ContentType="image/png"/>
  <Override PartName="/ppt/media/image7.pct" ContentType="image/x-pict"/>
  <Override PartName="/ppt/media/image12.pct" ContentType="image/x-pict"/>
  <Override PartName="/ppt/media/image8.png" ContentType="image/png"/>
  <Override PartName="/ppt/media/image9.png" ContentType="image/png"/>
  <Override PartName="/ppt/media/image1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A10A-C8E7-4C31-AD3F-82EDA5927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every ~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100 million) colony overn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body that can put more energy to growth &amp; reproduction takes over the toi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bacterium, locked into the genome that it has inherited, can cope with environmental fluctuations by exerting metabolic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cells vary the number of specific enzyme molecules by regulating gen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cells adjust the activity of enzymes already present (for example, by feedback inhibi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F725-34DA-44E1-8E21-DE02F6FBA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055A-B9CD-490E-B9F2-4959CCD0A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2B47-D9FB-4393-8376-493842322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E98E-FBB7-471B-AD2C-6AC1CBBFA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6918-F8FF-48ED-9BCC-4941A105E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6B0C-CABD-4B7E-AB98-F6E538610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C9B2-C0A2-47E4-A425-1DA29B6BC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3962-1D52-4EED-B6EB-F0F869BB0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CA75-B395-4BF4-B871-A46997787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5E8F-C99C-4BC6-A1AD-5A2A8A775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CB7A-F26B-45BA-B22E-0BE2E8F83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9CDA-2FD1-4579-9DBF-BAAD1773B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1FE9-27A5-4EE6-8B65-BD48C2DA6928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7919"/>
          <a:stretch/>
        </p:blipFill>
        <p:spPr>
          <a:xfrm>
            <a:off x="5181480" y="762120"/>
            <a:ext cx="396252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213372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3173400" cy="2494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9880" y="2514240"/>
            <a:ext cx="65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trol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karyotic (Bacterial) Gen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47760" y="4227480"/>
            <a:ext cx="1855800" cy="2495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362320" y="4114800"/>
            <a:ext cx="24667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ptophan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0" t="0" r="0" b="4639"/>
          <a:stretch/>
        </p:blipFill>
        <p:spPr>
          <a:xfrm>
            <a:off x="1103400" y="2316240"/>
            <a:ext cx="6933960" cy="3851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914400" y="1104480"/>
            <a:ext cx="79264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tryptophan is present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Don’t need to make tryptophan-building enzy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1640" y="6262560"/>
            <a:ext cx="7397280" cy="475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yptophan is allosteric regulator of repressor prote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  <a:ea typeface="Geneva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326" name="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335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338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Inducibl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: lactos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349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463640" y="4843440"/>
            <a:ext cx="3268440" cy="544680"/>
            <a:chOff x="4463640" y="4843440"/>
            <a:chExt cx="3268440" cy="544680"/>
          </a:xfrm>
        </p:grpSpPr>
        <p:grpSp>
          <p:nvGrpSpPr>
            <p:cNvPr id="352" name=""/>
            <p:cNvGrpSpPr/>
            <p:nvPr/>
          </p:nvGrpSpPr>
          <p:grpSpPr>
            <a:xfrm>
              <a:off x="4463640" y="4843440"/>
              <a:ext cx="1116360" cy="544680"/>
              <a:chOff x="4463640" y="4843440"/>
              <a:chExt cx="1116360" cy="544680"/>
            </a:xfrm>
          </p:grpSpPr>
          <p:sp>
            <p:nvSpPr>
              <p:cNvPr id="353" name=""/>
              <p:cNvSpPr/>
              <p:nvPr/>
            </p:nvSpPr>
            <p:spPr>
              <a:xfrm>
                <a:off x="4525920" y="484344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63640" y="494640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659920" y="493164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14800" y="6154200"/>
            <a:ext cx="4659120" cy="642600"/>
            <a:chOff x="4114800" y="6154200"/>
            <a:chExt cx="4659120" cy="642600"/>
          </a:xfrm>
        </p:grpSpPr>
        <p:grpSp>
          <p:nvGrpSpPr>
            <p:cNvPr id="357" name=""/>
            <p:cNvGrpSpPr/>
            <p:nvPr/>
          </p:nvGrpSpPr>
          <p:grpSpPr>
            <a:xfrm>
              <a:off x="4114800" y="6203880"/>
              <a:ext cx="1465200" cy="544680"/>
              <a:chOff x="4114800" y="6203880"/>
              <a:chExt cx="1465200" cy="544680"/>
            </a:xfrm>
          </p:grpSpPr>
          <p:sp>
            <p:nvSpPr>
              <p:cNvPr id="358" name=""/>
              <p:cNvSpPr/>
              <p:nvPr/>
            </p:nvSpPr>
            <p:spPr>
              <a:xfrm>
                <a:off x="4114800" y="6291360"/>
                <a:ext cx="457200" cy="380880"/>
              </a:xfrm>
              <a:prstGeom prst="hexagon">
                <a:avLst>
                  <a:gd name="adj" fmla="val 30009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4463640" y="6203880"/>
                <a:ext cx="1116360" cy="544680"/>
                <a:chOff x="4463640" y="6203880"/>
                <a:chExt cx="1116360" cy="5446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525920" y="620388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463640" y="630684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>
              <a:off x="5661000" y="6154200"/>
              <a:ext cx="31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 –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952880" y="5597640"/>
            <a:ext cx="1674000" cy="380880"/>
            <a:chOff x="4952880" y="5597640"/>
            <a:chExt cx="1674000" cy="380880"/>
          </a:xfrm>
        </p:grpSpPr>
        <p:sp>
          <p:nvSpPr>
            <p:cNvPr id="364" name=""/>
            <p:cNvSpPr/>
            <p:nvPr/>
          </p:nvSpPr>
          <p:spPr>
            <a:xfrm>
              <a:off x="5659920" y="560304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52880" y="559764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328788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415880" y="3200400"/>
            <a:ext cx="1116360" cy="544680"/>
            <a:chOff x="1415880" y="3200400"/>
            <a:chExt cx="1116360" cy="544680"/>
          </a:xfrm>
        </p:grpSpPr>
        <p:sp>
          <p:nvSpPr>
            <p:cNvPr id="368" name=""/>
            <p:cNvSpPr/>
            <p:nvPr/>
          </p:nvSpPr>
          <p:spPr>
            <a:xfrm>
              <a:off x="1477800" y="3200400"/>
              <a:ext cx="99036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588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06800" y="1371600"/>
            <a:ext cx="4221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gestive pathway mode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lactose is present, binds to </a:t>
            </a:r>
            <a:br>
              <a:rPr sz="2000"/>
            </a:b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lac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40280" indent="-226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nduces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381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385" name="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157920" y="1301760"/>
            <a:ext cx="1541880" cy="1673280"/>
            <a:chOff x="3157920" y="1301760"/>
            <a:chExt cx="1541880" cy="1673280"/>
          </a:xfrm>
        </p:grpSpPr>
        <p:grpSp>
          <p:nvGrpSpPr>
            <p:cNvPr id="394" name=""/>
            <p:cNvGrpSpPr/>
            <p:nvPr/>
          </p:nvGrpSpPr>
          <p:grpSpPr>
            <a:xfrm>
              <a:off x="3627720" y="1301760"/>
              <a:ext cx="394200" cy="304920"/>
              <a:chOff x="3627720" y="1301760"/>
              <a:chExt cx="394200" cy="304920"/>
            </a:xfrm>
          </p:grpSpPr>
          <p:sp>
            <p:nvSpPr>
              <p:cNvPr id="395" name=""/>
              <p:cNvSpPr/>
              <p:nvPr/>
            </p:nvSpPr>
            <p:spPr>
              <a:xfrm>
                <a:off x="3638520" y="130176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627720" y="13215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4175640" y="1301760"/>
              <a:ext cx="394200" cy="304920"/>
              <a:chOff x="4175640" y="1301760"/>
              <a:chExt cx="394200" cy="304920"/>
            </a:xfrm>
          </p:grpSpPr>
          <p:sp>
            <p:nvSpPr>
              <p:cNvPr id="398" name=""/>
              <p:cNvSpPr/>
              <p:nvPr/>
            </p:nvSpPr>
            <p:spPr>
              <a:xfrm>
                <a:off x="4186440" y="130176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75640" y="13215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4305600" y="1751040"/>
              <a:ext cx="394200" cy="304920"/>
              <a:chOff x="4305600" y="1751040"/>
              <a:chExt cx="394200" cy="304920"/>
            </a:xfrm>
          </p:grpSpPr>
          <p:sp>
            <p:nvSpPr>
              <p:cNvPr id="401" name=""/>
              <p:cNvSpPr/>
              <p:nvPr/>
            </p:nvSpPr>
            <p:spPr>
              <a:xfrm>
                <a:off x="4316400" y="175104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05600" y="177084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788280" y="1781280"/>
              <a:ext cx="394200" cy="304560"/>
              <a:chOff x="3788280" y="1781280"/>
              <a:chExt cx="394200" cy="304560"/>
            </a:xfrm>
          </p:grpSpPr>
          <p:sp>
            <p:nvSpPr>
              <p:cNvPr id="404" name=""/>
              <p:cNvSpPr/>
              <p:nvPr/>
            </p:nvSpPr>
            <p:spPr>
              <a:xfrm>
                <a:off x="3799080" y="1781280"/>
                <a:ext cx="380880" cy="304560"/>
              </a:xfrm>
              <a:prstGeom prst="hexagon">
                <a:avLst>
                  <a:gd name="adj" fmla="val 31265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88280" y="18003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4131000" y="2198520"/>
              <a:ext cx="394200" cy="304920"/>
              <a:chOff x="4131000" y="2198520"/>
              <a:chExt cx="394200" cy="304920"/>
            </a:xfrm>
          </p:grpSpPr>
          <p:sp>
            <p:nvSpPr>
              <p:cNvPr id="407" name=""/>
              <p:cNvSpPr/>
              <p:nvPr/>
            </p:nvSpPr>
            <p:spPr>
              <a:xfrm>
                <a:off x="4141800" y="219852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131000" y="22183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3629520" y="2419200"/>
              <a:ext cx="394200" cy="304920"/>
              <a:chOff x="3629520" y="2419200"/>
              <a:chExt cx="394200" cy="304920"/>
            </a:xfrm>
          </p:grpSpPr>
          <p:sp>
            <p:nvSpPr>
              <p:cNvPr id="410" name=""/>
              <p:cNvSpPr/>
              <p:nvPr/>
            </p:nvSpPr>
            <p:spPr>
              <a:xfrm>
                <a:off x="3640320" y="241920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29520" y="243900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3157920" y="2670120"/>
              <a:ext cx="394200" cy="304920"/>
              <a:chOff x="3157920" y="2670120"/>
              <a:chExt cx="394200" cy="304920"/>
            </a:xfrm>
          </p:grpSpPr>
          <p:sp>
            <p:nvSpPr>
              <p:cNvPr id="413" name=""/>
              <p:cNvSpPr/>
              <p:nvPr/>
            </p:nvSpPr>
            <p:spPr>
              <a:xfrm>
                <a:off x="3168720" y="267012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57920" y="2689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146160" y="6110280"/>
            <a:ext cx="3308400" cy="711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83480" y="5669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32800" y="6339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ose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rcRect l="0" t="0" r="0" b="6161"/>
          <a:stretch/>
        </p:blipFill>
        <p:spPr>
          <a:xfrm>
            <a:off x="380880" y="2192400"/>
            <a:ext cx="8763120" cy="3751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914400" y="128412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lactose is present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Need to make lactose-digesting enzy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09520" y="6026040"/>
            <a:ext cx="6917040" cy="475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actose is allosteric regulator of repressor prote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Jacob &amp; Monod: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lac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ancois Jacob &amp; Jacques Mono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irst to describe operon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ined the phrase “oper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0852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65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11880" y="2971800"/>
            <a:ext cx="2755800" cy="3492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3745080" y="2971800"/>
            <a:ext cx="2503440" cy="3809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630840" y="6429960"/>
            <a:ext cx="2230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Francois Jacob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54880" y="6429960"/>
            <a:ext cx="2291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Jacques Mono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5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pressible 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n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ynthesiz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end produc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en end product is present in excess,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ell allocates resources to other us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5e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ucible 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,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digest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nutrients to simpler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 enzymes only when nutrient is availab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ell avoids making proteins that have nothing to do, cell allocates resources to other us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752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65240" y="4275000"/>
            <a:ext cx="2466720" cy="2475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2216160" y="738360"/>
            <a:ext cx="6924600" cy="2911320"/>
          </a:xfrm>
          <a:prstGeom prst="wedgeEllipseCallout">
            <a:avLst>
              <a:gd name="adj1" fmla="val -52634"/>
              <a:gd name="adj2" fmla="val 92092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be repressed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can I induce you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o ask Questions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need to respond quickly to changes in their environ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they have enough of a product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stop produ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waste of energy to produce mo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top production of enzymes for synthesi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they find new food/energy source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utilize it quick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etabolism, growth,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tart production of enzymes for digestion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3352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10552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Regulating Metabolism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4193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eedback inhibi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t act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 a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osteric inhibito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of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enzyme in tryptophan pathwa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Arial"/>
              </a:rPr>
              <a:t>but this is wasteful production of enzy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209680"/>
            <a:ext cx="1143000" cy="68580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124080"/>
            <a:ext cx="1143000" cy="358164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31000" y="6288120"/>
            <a:ext cx="1295280" cy="45720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34320" y="1523520"/>
            <a:ext cx="2055960" cy="642600"/>
            <a:chOff x="6934320" y="1523520"/>
            <a:chExt cx="2055960" cy="642600"/>
          </a:xfrm>
        </p:grpSpPr>
        <p:sp>
          <p:nvSpPr>
            <p:cNvPr id="118" name=""/>
            <p:cNvSpPr/>
            <p:nvPr/>
          </p:nvSpPr>
          <p:spPr>
            <a:xfrm>
              <a:off x="7311600" y="1661040"/>
              <a:ext cx="1678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= inhibitio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934320" y="1523520"/>
              <a:ext cx="380880" cy="642600"/>
              <a:chOff x="6934320" y="1523520"/>
              <a:chExt cx="380880" cy="642600"/>
            </a:xfrm>
          </p:grpSpPr>
          <p:sp>
            <p:nvSpPr>
              <p:cNvPr id="120" name=""/>
              <p:cNvSpPr/>
              <p:nvPr/>
            </p:nvSpPr>
            <p:spPr>
              <a:xfrm>
                <a:off x="6934320" y="16858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958440" y="15235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8534520" y="4539600"/>
            <a:ext cx="380880" cy="642600"/>
            <a:chOff x="8534520" y="4539600"/>
            <a:chExt cx="380880" cy="642600"/>
          </a:xfrm>
        </p:grpSpPr>
        <p:sp>
          <p:nvSpPr>
            <p:cNvPr id="123" name=""/>
            <p:cNvSpPr/>
            <p:nvPr/>
          </p:nvSpPr>
          <p:spPr>
            <a:xfrm>
              <a:off x="8534520" y="470196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58640" y="453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2286000" y="5105520"/>
            <a:ext cx="2433600" cy="1538280"/>
          </a:xfrm>
          <a:prstGeom prst="wedgeEllipseCallout">
            <a:avLst>
              <a:gd name="adj1" fmla="val 103356"/>
              <a:gd name="adj2" fmla="val 97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Oh, I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remember thi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rom ou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etabolism Un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Different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way to Regulate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e regula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stead of blocking enzyme function, block transcription of genes for all enzymes in tryptophan pathwa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aves energy b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t wasting it on unnecessary protein syn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934320" y="1523520"/>
            <a:ext cx="2055960" cy="642600"/>
            <a:chOff x="6934320" y="1523520"/>
            <a:chExt cx="2055960" cy="642600"/>
          </a:xfrm>
        </p:grpSpPr>
        <p:sp>
          <p:nvSpPr>
            <p:cNvPr id="131" name=""/>
            <p:cNvSpPr/>
            <p:nvPr/>
          </p:nvSpPr>
          <p:spPr>
            <a:xfrm>
              <a:off x="7311600" y="1661040"/>
              <a:ext cx="1678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= inhibitio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934320" y="1523520"/>
              <a:ext cx="380880" cy="642600"/>
              <a:chOff x="6934320" y="1523520"/>
              <a:chExt cx="380880" cy="6426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34320" y="16858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8440" y="15235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1905120" y="5734080"/>
            <a:ext cx="2433600" cy="1066680"/>
          </a:xfrm>
          <a:prstGeom prst="wedgeEllipseCallout">
            <a:avLst>
              <a:gd name="adj1" fmla="val 88680"/>
              <a:gd name="adj2" fmla="val -36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Now, that’s a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ood idea from a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owly bacterium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534520" y="4539600"/>
            <a:ext cx="380880" cy="642600"/>
            <a:chOff x="8534520" y="4539600"/>
            <a:chExt cx="380880" cy="642600"/>
          </a:xfrm>
        </p:grpSpPr>
        <p:sp>
          <p:nvSpPr>
            <p:cNvPr id="138" name=""/>
            <p:cNvSpPr/>
            <p:nvPr/>
          </p:nvSpPr>
          <p:spPr>
            <a:xfrm>
              <a:off x="8534520" y="470196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58640" y="453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816440" y="5139720"/>
            <a:ext cx="380880" cy="642600"/>
            <a:chOff x="4816440" y="5139720"/>
            <a:chExt cx="380880" cy="642600"/>
          </a:xfrm>
        </p:grpSpPr>
        <p:sp>
          <p:nvSpPr>
            <p:cNvPr id="141" name=""/>
            <p:cNvSpPr/>
            <p:nvPr/>
          </p:nvSpPr>
          <p:spPr>
            <a:xfrm>
              <a:off x="4816440" y="530208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40560" y="51397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 regulation in 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s vary amount of specific enzymes by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gulating gene transcrip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urn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genes 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tur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es off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urn genes OFF examp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bacterium has enough tryptophan then it doesn’t need to make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uil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ryptopha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urn genes ON example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bacterium encounters new sugar (energy source), like lactose, then it needs to start making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digest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lact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82720" y="3352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6400" y="4892760"/>
            <a:ext cx="1066680" cy="914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0" r="0" b="18573"/>
          <a:stretch/>
        </p:blipFill>
        <p:spPr>
          <a:xfrm>
            <a:off x="1371600" y="4191120"/>
            <a:ext cx="7162920" cy="2544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 group genes together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0140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s grouped together with related function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all enzymes in a metabolic pathwa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mote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RNA polymerase binding sit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promoter controls transcription of all genes in oper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cribed as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one uni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a single mRNA is mad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perato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DNA binding site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63760" y="5908680"/>
            <a:ext cx="2422440" cy="826920"/>
          </a:xfrm>
          <a:prstGeom prst="rect">
            <a:avLst/>
          </a:prstGeom>
          <a:solidFill>
            <a:srgbClr val="f2d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5680" y="5218200"/>
            <a:ext cx="1752480" cy="826920"/>
          </a:xfrm>
          <a:prstGeom prst="rect">
            <a:avLst/>
          </a:prstGeom>
          <a:solidFill>
            <a:srgbClr val="f2d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66"/>
                </a:solidFill>
                <a:latin typeface="Arial"/>
              </a:rPr>
              <a:t>So how can these genes be turned off?</a:t>
            </a:r>
            <a:endParaRPr b="1" lang="en-US" sz="35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nds to DNA at operator sit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locking RNA polymer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locks transcrip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5450"/>
          <a:stretch/>
        </p:blipFill>
        <p:spPr>
          <a:xfrm>
            <a:off x="1422360" y="3411360"/>
            <a:ext cx="666756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158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161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mo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172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472760" y="3200400"/>
            <a:ext cx="1116360" cy="544680"/>
            <a:chOff x="1472760" y="3200400"/>
            <a:chExt cx="1116360" cy="544680"/>
          </a:xfrm>
        </p:grpSpPr>
        <p:sp>
          <p:nvSpPr>
            <p:cNvPr id="176" name=""/>
            <p:cNvSpPr/>
            <p:nvPr/>
          </p:nvSpPr>
          <p:spPr>
            <a:xfrm>
              <a:off x="1535040" y="3200400"/>
              <a:ext cx="99072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276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511600" y="6073920"/>
            <a:ext cx="3465360" cy="544320"/>
            <a:chOff x="5511600" y="6073920"/>
            <a:chExt cx="3465360" cy="544320"/>
          </a:xfrm>
        </p:grpSpPr>
        <p:grpSp>
          <p:nvGrpSpPr>
            <p:cNvPr id="179" name=""/>
            <p:cNvGrpSpPr/>
            <p:nvPr/>
          </p:nvGrpSpPr>
          <p:grpSpPr>
            <a:xfrm>
              <a:off x="5511600" y="6073920"/>
              <a:ext cx="1116360" cy="544320"/>
              <a:chOff x="5511600" y="6073920"/>
              <a:chExt cx="1116360" cy="544320"/>
            </a:xfrm>
          </p:grpSpPr>
          <p:sp>
            <p:nvSpPr>
              <p:cNvPr id="180" name=""/>
              <p:cNvSpPr/>
              <p:nvPr/>
            </p:nvSpPr>
            <p:spPr>
              <a:xfrm>
                <a:off x="5573520" y="6073920"/>
                <a:ext cx="990360" cy="544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11600" y="617616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706800" y="616176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=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24080" y="133344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Operon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perator, promoter &amp; genes they contro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rve as a model for gene regul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194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8920" y="5981760"/>
            <a:ext cx="5105520" cy="7621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urns off gene by blocking RNA polymerase binding si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198" name="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208" name="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18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3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219" name="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228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231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Repressibl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: tryptopha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242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048280" y="5649120"/>
            <a:ext cx="1986120" cy="368280"/>
            <a:chOff x="5048280" y="5649120"/>
            <a:chExt cx="1986120" cy="368280"/>
          </a:xfrm>
        </p:grpSpPr>
        <p:sp>
          <p:nvSpPr>
            <p:cNvPr id="246" name=""/>
            <p:cNvSpPr/>
            <p:nvPr/>
          </p:nvSpPr>
          <p:spPr>
            <a:xfrm>
              <a:off x="5048280" y="56815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58840" y="564912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463640" y="4905360"/>
            <a:ext cx="3268440" cy="544680"/>
            <a:chOff x="4463640" y="4905360"/>
            <a:chExt cx="3268440" cy="544680"/>
          </a:xfrm>
        </p:grpSpPr>
        <p:grpSp>
          <p:nvGrpSpPr>
            <p:cNvPr id="249" name=""/>
            <p:cNvGrpSpPr/>
            <p:nvPr/>
          </p:nvGrpSpPr>
          <p:grpSpPr>
            <a:xfrm>
              <a:off x="4463640" y="4905360"/>
              <a:ext cx="1116360" cy="544680"/>
              <a:chOff x="4463640" y="4905360"/>
              <a:chExt cx="1116360" cy="544680"/>
            </a:xfrm>
          </p:grpSpPr>
          <p:sp>
            <p:nvSpPr>
              <p:cNvPr id="250" name=""/>
              <p:cNvSpPr/>
              <p:nvPr/>
            </p:nvSpPr>
            <p:spPr>
              <a:xfrm>
                <a:off x="4525920" y="490536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63640" y="500832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659920" y="499356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232160" y="6216120"/>
            <a:ext cx="4948200" cy="642600"/>
            <a:chOff x="4232160" y="6216120"/>
            <a:chExt cx="4948200" cy="642600"/>
          </a:xfrm>
        </p:grpSpPr>
        <p:grpSp>
          <p:nvGrpSpPr>
            <p:cNvPr id="254" name=""/>
            <p:cNvGrpSpPr/>
            <p:nvPr/>
          </p:nvGrpSpPr>
          <p:grpSpPr>
            <a:xfrm>
              <a:off x="4232160" y="6265800"/>
              <a:ext cx="1347840" cy="544680"/>
              <a:chOff x="4232160" y="6265800"/>
              <a:chExt cx="1347840" cy="544680"/>
            </a:xfrm>
          </p:grpSpPr>
          <p:sp>
            <p:nvSpPr>
              <p:cNvPr id="255" name=""/>
              <p:cNvSpPr/>
              <p:nvPr/>
            </p:nvSpPr>
            <p:spPr>
              <a:xfrm>
                <a:off x="4232160" y="6386400"/>
                <a:ext cx="381240" cy="304920"/>
              </a:xfrm>
              <a:prstGeom prst="hexagon">
                <a:avLst>
                  <a:gd name="adj" fmla="val 31257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4463640" y="6265800"/>
                <a:ext cx="1116360" cy="544680"/>
                <a:chOff x="4463640" y="6265800"/>
                <a:chExt cx="1116360" cy="5446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5920" y="626580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463640" y="636876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5659200" y="6216120"/>
              <a:ext cx="35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 –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5520" y="1371600"/>
            <a:ext cx="457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ynthesis pathway mod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excess tryptophan is present, it binds to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tryp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in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o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352440" indent="-237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blocks (represses)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6160" y="6110280"/>
            <a:ext cx="3308400" cy="711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272" name="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564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920880" y="3238560"/>
            <a:ext cx="1369800" cy="544320"/>
            <a:chOff x="920880" y="3238560"/>
            <a:chExt cx="1369800" cy="544320"/>
          </a:xfrm>
        </p:grpSpPr>
        <p:grpSp>
          <p:nvGrpSpPr>
            <p:cNvPr id="281" name=""/>
            <p:cNvGrpSpPr/>
            <p:nvPr/>
          </p:nvGrpSpPr>
          <p:grpSpPr>
            <a:xfrm>
              <a:off x="942840" y="3238560"/>
              <a:ext cx="1347840" cy="544320"/>
              <a:chOff x="942840" y="3238560"/>
              <a:chExt cx="1347840" cy="544320"/>
            </a:xfrm>
          </p:grpSpPr>
          <p:sp>
            <p:nvSpPr>
              <p:cNvPr id="282" name=""/>
              <p:cNvSpPr/>
              <p:nvPr/>
            </p:nvSpPr>
            <p:spPr>
              <a:xfrm>
                <a:off x="942840" y="3358800"/>
                <a:ext cx="381240" cy="304560"/>
              </a:xfrm>
              <a:prstGeom prst="hexagon">
                <a:avLst>
                  <a:gd name="adj" fmla="val 31294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1174320" y="3238560"/>
                <a:ext cx="1116360" cy="544320"/>
                <a:chOff x="1174320" y="3238560"/>
                <a:chExt cx="1116360" cy="5443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236600" y="3238560"/>
                  <a:ext cx="990720" cy="544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174320" y="334080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" name=""/>
            <p:cNvSpPr/>
            <p:nvPr/>
          </p:nvSpPr>
          <p:spPr>
            <a:xfrm>
              <a:off x="920880" y="33753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288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042160" y="57016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04080" y="63936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213760" y="3825720"/>
            <a:ext cx="387000" cy="304920"/>
            <a:chOff x="8213760" y="3825720"/>
            <a:chExt cx="387000" cy="304920"/>
          </a:xfrm>
        </p:grpSpPr>
        <p:sp>
          <p:nvSpPr>
            <p:cNvPr id="293" name=""/>
            <p:cNvSpPr/>
            <p:nvPr/>
          </p:nvSpPr>
          <p:spPr>
            <a:xfrm>
              <a:off x="8219880" y="38257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13760" y="3845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757000" y="3902040"/>
            <a:ext cx="387000" cy="304920"/>
            <a:chOff x="8757000" y="3902040"/>
            <a:chExt cx="387000" cy="304920"/>
          </a:xfrm>
        </p:grpSpPr>
        <p:sp>
          <p:nvSpPr>
            <p:cNvPr id="296" name=""/>
            <p:cNvSpPr/>
            <p:nvPr/>
          </p:nvSpPr>
          <p:spPr>
            <a:xfrm>
              <a:off x="8763120" y="390204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757000" y="39218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955280" y="4297320"/>
            <a:ext cx="387000" cy="304920"/>
            <a:chOff x="7955280" y="4297320"/>
            <a:chExt cx="387000" cy="304920"/>
          </a:xfrm>
        </p:grpSpPr>
        <p:sp>
          <p:nvSpPr>
            <p:cNvPr id="299" name=""/>
            <p:cNvSpPr/>
            <p:nvPr/>
          </p:nvSpPr>
          <p:spPr>
            <a:xfrm>
              <a:off x="7961400" y="42973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55280" y="4317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502840" y="4297320"/>
            <a:ext cx="387000" cy="304920"/>
            <a:chOff x="8502840" y="4297320"/>
            <a:chExt cx="387000" cy="304920"/>
          </a:xfrm>
        </p:grpSpPr>
        <p:sp>
          <p:nvSpPr>
            <p:cNvPr id="302" name=""/>
            <p:cNvSpPr/>
            <p:nvPr/>
          </p:nvSpPr>
          <p:spPr>
            <a:xfrm>
              <a:off x="8508960" y="42973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02840" y="4317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8633160" y="4746600"/>
            <a:ext cx="387000" cy="304920"/>
            <a:chOff x="8633160" y="4746600"/>
            <a:chExt cx="387000" cy="304920"/>
          </a:xfrm>
        </p:grpSpPr>
        <p:sp>
          <p:nvSpPr>
            <p:cNvPr id="305" name=""/>
            <p:cNvSpPr/>
            <p:nvPr/>
          </p:nvSpPr>
          <p:spPr>
            <a:xfrm>
              <a:off x="8639280" y="474660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33160" y="47664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8115480" y="4776840"/>
            <a:ext cx="387000" cy="304920"/>
            <a:chOff x="8115480" y="4776840"/>
            <a:chExt cx="387000" cy="304920"/>
          </a:xfrm>
        </p:grpSpPr>
        <p:sp>
          <p:nvSpPr>
            <p:cNvPr id="308" name=""/>
            <p:cNvSpPr/>
            <p:nvPr/>
          </p:nvSpPr>
          <p:spPr>
            <a:xfrm>
              <a:off x="8121600" y="477684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15480" y="4796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8458560" y="5194440"/>
            <a:ext cx="387000" cy="304560"/>
            <a:chOff x="8458560" y="5194440"/>
            <a:chExt cx="387000" cy="304560"/>
          </a:xfrm>
        </p:grpSpPr>
        <p:sp>
          <p:nvSpPr>
            <p:cNvPr id="311" name=""/>
            <p:cNvSpPr/>
            <p:nvPr/>
          </p:nvSpPr>
          <p:spPr>
            <a:xfrm>
              <a:off x="8464680" y="5194440"/>
              <a:ext cx="380880" cy="304560"/>
            </a:xfrm>
            <a:prstGeom prst="hexagon">
              <a:avLst>
                <a:gd name="adj" fmla="val 31265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560" y="5213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956720" y="5415120"/>
            <a:ext cx="387000" cy="304560"/>
            <a:chOff x="7956720" y="5415120"/>
            <a:chExt cx="387000" cy="304560"/>
          </a:xfrm>
        </p:grpSpPr>
        <p:sp>
          <p:nvSpPr>
            <p:cNvPr id="314" name=""/>
            <p:cNvSpPr/>
            <p:nvPr/>
          </p:nvSpPr>
          <p:spPr>
            <a:xfrm>
              <a:off x="7962840" y="5415120"/>
              <a:ext cx="380880" cy="304560"/>
            </a:xfrm>
            <a:prstGeom prst="hexagon">
              <a:avLst>
                <a:gd name="adj" fmla="val 31265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56720" y="54342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485120" y="5665680"/>
            <a:ext cx="387000" cy="304920"/>
            <a:chOff x="7485120" y="5665680"/>
            <a:chExt cx="387000" cy="304920"/>
          </a:xfrm>
        </p:grpSpPr>
        <p:sp>
          <p:nvSpPr>
            <p:cNvPr id="317" name=""/>
            <p:cNvSpPr/>
            <p:nvPr/>
          </p:nvSpPr>
          <p:spPr>
            <a:xfrm>
              <a:off x="7491240" y="566568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5120" y="56854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83" dur="5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9:41:46Z</dcterms:created>
  <dc:creator>Justin</dc:creator>
  <dc:description>All Rights Reserved. Copyright 2003. WD Interactive.</dc:description>
  <cp:keywords>Education Biology Zone Kim Foglia</cp:keywords>
  <dc:language>en-US</dc:language>
  <cp:lastModifiedBy>Kim B. Foglia</cp:lastModifiedBy>
  <cp:lastPrinted>2007-05-07T00:40:30Z</cp:lastPrinted>
  <dcterms:modified xsi:type="dcterms:W3CDTF">2009-04-02T23:47:07Z</dcterms:modified>
  <cp:revision>69</cp:revision>
  <dc:subject>AP &amp; Regents Biology</dc:subject>
  <dc:title>Chapter  18.</dc:title>
</cp:coreProperties>
</file>